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046-C90F-4806-9614-4B140604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57E-1A1E-41CB-A2C0-2A30AE2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2E4-5113-4A65-8FA1-B2A1B4B3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F69-AED9-440B-B5E7-BFA7571E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C74-4D0C-47F8-BC6B-C517B8D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326-662A-45B3-9105-8699D0A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7F5-E879-4B0A-B215-FC2A5AB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9F3-90F6-467D-A939-4436A2BE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19F-29CA-45E1-84EA-3AAE2DC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6D7-25FB-4C44-9DB2-D20F468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3CD-B26E-40D2-A219-338761F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B93-1DA1-4341-B3C5-03B51B0C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FE0-A776-4278-8859-713E839B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7453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6934320" cy="124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52880" y="15238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9:07Z</dcterms:created>
  <dc:creator>Graham</dc:creator>
  <dc:description/>
  <dc:language>en-US</dc:language>
  <cp:lastModifiedBy>Graham</cp:lastModifiedBy>
  <dcterms:modified xsi:type="dcterms:W3CDTF">2012-09-30T18:39:11Z</dcterms:modified>
  <cp:revision>1</cp:revision>
  <dc:subject/>
  <dc:title>Slide 1</dc:title>
</cp:coreProperties>
</file>